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A571E-0735-49DD-90B7-E2DCF63D9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91711-23E6-4F33-8BBE-F1AA3835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BCA8E-D6E2-4B94-A721-25A92499E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924F8-F9E8-4957-A4A2-BF23B558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0171-5B4C-45EE-A29B-201ECE3A6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219A-0D88-4F0C-A0A1-C1DCF3D7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DEE5-A622-4382-B7E9-C815A87C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6B94-FF28-45A4-8C9B-A361BB27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A4CC-4DC4-4FA3-9663-0340C8DC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8CB4-FDDB-49F0-AC66-878E66A2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0E57-A90A-4489-93D6-122B0E12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8A01F-E3FF-4546-BE00-12CE6DED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B1F8-4AA2-4C27-968E-85761ECF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ADDC-2561-4383-90D2-1F3B6310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B72F-815A-4485-AE09-CDA44157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C474-4BCA-43B8-AE45-8883FD92F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0588-D49B-416F-81CD-DE2919308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08469-41E1-43FB-92C3-04FA0BCB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21B90-4818-4413-8554-0F825662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E9166-47CF-4DDF-B990-75D73FEC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3B13F-EFAA-4063-A810-0781AFA9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66923-4289-4C47-9786-99190CF5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5C2DD-EF1C-4034-9433-4769DD3A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A4C07-4EBB-4D18-B4BB-E3B503EC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4E06-EEED-4C26-BC07-377CAC0854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281952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ric Just – dictyBase – Northwestern 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AA2B-73AD-4E4B-AF4C-F0B8209C3D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Porting CHADO and GMOD Tools to Oracle and Integration with dictyBase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ic Ju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cty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dictybase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er for Genetic Medic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rthwestern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600200" y="3505320"/>
            <a:ext cx="617220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btable’ database abstraction 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600200" y="2133720"/>
            <a:ext cx="2590920" cy="12189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ous middleware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sentation o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343400" y="2819520"/>
            <a:ext cx="342900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ctyBase Object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343400" y="2133720"/>
            <a:ext cx="342900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ctyBase Presentation 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grating into dictyBase 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505320" y="4648320"/>
            <a:ext cx="1828800" cy="1295280"/>
          </a:xfrm>
          <a:prstGeom prst="can">
            <a:avLst>
              <a:gd name="adj" fmla="val 25000"/>
            </a:avLst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cty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G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4038480" y="4070160"/>
            <a:ext cx="0" cy="53316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811760" y="4083120"/>
            <a:ext cx="0" cy="53316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D4848-C8D2-4A9D-9041-46CF6B8BEE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1600200" y="3505320"/>
            <a:ext cx="304812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btable’ 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124080" y="2819520"/>
            <a:ext cx="464832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ctyBase Object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124080" y="2133720"/>
            <a:ext cx="464832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ctyBase Presentation 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800600" y="3505320"/>
            <a:ext cx="297180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::DBI 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grating into dictyBase I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286000" y="4724280"/>
            <a:ext cx="1828800" cy="1295640"/>
          </a:xfrm>
          <a:prstGeom prst="can">
            <a:avLst>
              <a:gd name="adj" fmla="val 25000"/>
            </a:avLst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cty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G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2819520" y="4146480"/>
            <a:ext cx="0" cy="53352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592440" y="4159080"/>
            <a:ext cx="0" cy="53352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181480" y="4724280"/>
            <a:ext cx="1828800" cy="1295640"/>
          </a:xfrm>
          <a:prstGeom prst="can">
            <a:avLst>
              <a:gd name="adj" fmla="val 25000"/>
            </a:avLst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5715000" y="4146480"/>
            <a:ext cx="0" cy="53352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488280" y="4159080"/>
            <a:ext cx="0" cy="53352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600200" y="2144880"/>
            <a:ext cx="1371600" cy="12189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ariou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ddlewa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sentatio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je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2368E-5F0E-4927-A31E-DA0598BF2C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ictyBase Objec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rieve, insert, update, dele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face ignorant of sch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presentation in data cla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s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ned with lazy evaluation most access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5 – 80% unit test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F79C3-5B37-484A-92B9-E0F3E5B7B5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se BioPerl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Bio::Seq to represent sequ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Bio::SeqFeatures to represent transcript and alignment lo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ness the power of BioPerl for sequence tasks, file gen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: BioPerl only used for sequence and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20970-5674-49A1-AC61-3DD5AC011E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ass Diagram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905280" y="1752480"/>
            <a:ext cx="1219320" cy="53352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76280" y="3276720"/>
            <a:ext cx="121932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47680" y="4572000"/>
            <a:ext cx="1905120" cy="53352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1162080" y="3885840"/>
            <a:ext cx="0" cy="685800"/>
          </a:xfrm>
          <a:prstGeom prst="line">
            <a:avLst/>
          </a:prstGeom>
          <a:ln w="31680">
            <a:solidFill>
              <a:srgbClr val="ffffff"/>
            </a:solidFill>
            <a:miter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990880" y="3276720"/>
            <a:ext cx="121932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05080" y="4572000"/>
            <a:ext cx="2604960" cy="53352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3600360" y="3886200"/>
            <a:ext cx="0" cy="657360"/>
          </a:xfrm>
          <a:prstGeom prst="line">
            <a:avLst/>
          </a:prstGeom>
          <a:ln w="31680">
            <a:solidFill>
              <a:srgbClr val="ffffff"/>
            </a:solidFill>
            <a:miter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971960" y="3276720"/>
            <a:ext cx="2057400" cy="91440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048280" y="4572000"/>
            <a:ext cx="1981080" cy="53352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6039000" y="4266720"/>
            <a:ext cx="0" cy="304920"/>
          </a:xfrm>
          <a:prstGeom prst="line">
            <a:avLst/>
          </a:prstGeom>
          <a:ln w="31680">
            <a:solidFill>
              <a:srgbClr val="ffffff"/>
            </a:solidFill>
            <a:miter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7182000" y="3276720"/>
            <a:ext cx="1752480" cy="53316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486560" y="4572000"/>
            <a:ext cx="1219320" cy="53352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8096400" y="3885840"/>
            <a:ext cx="0" cy="685800"/>
          </a:xfrm>
          <a:prstGeom prst="line">
            <a:avLst/>
          </a:prstGeom>
          <a:ln w="31680">
            <a:solidFill>
              <a:srgbClr val="ffffff"/>
            </a:solidFill>
            <a:miter/>
            <a:tailEnd len="lg" type="diamond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059720" y="18288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a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31800" y="335268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ign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145320" y="33526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R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508000" y="33526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i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261200" y="335268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omos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967280" y="3657600"/>
            <a:ext cx="207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tOverlappingFeatures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tOverlappingAlignments(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400640" y="229536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162080" y="2895480"/>
            <a:ext cx="693432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514760" y="2438280"/>
            <a:ext cx="7920" cy="4460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162080" y="2895480"/>
            <a:ext cx="0" cy="3812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600360" y="2895480"/>
            <a:ext cx="0" cy="3812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039000" y="2895480"/>
            <a:ext cx="0" cy="3812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096400" y="2895480"/>
            <a:ext cx="0" cy="3812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376720" y="4724280"/>
            <a:ext cx="251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::SeqFeature::Gene::Transcri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044680" y="4724280"/>
            <a:ext cx="19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::SeqFeature::Gener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44080" y="4724280"/>
            <a:ext cx="19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::SeqFeature::Gener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714800" y="472428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::Seq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24" name=""/>
          <p:cNvCxnSpPr>
            <a:stCxn id="596" idx="2"/>
            <a:endCxn id="605" idx="2"/>
          </p:cNvCxnSpPr>
          <p:nvPr/>
        </p:nvCxnSpPr>
        <p:spPr>
          <a:xfrm flipH="1" rot="16200000">
            <a:off x="4647600" y="1673640"/>
            <a:ext cx="2160" cy="6896880"/>
          </a:xfrm>
          <a:prstGeom prst="bentConnector3">
            <a:avLst>
              <a:gd name="adj1" fmla="val 61400000"/>
            </a:avLst>
          </a:prstGeom>
          <a:ln w="31680">
            <a:solidFill>
              <a:srgbClr val="ffffff"/>
            </a:solidFill>
            <a:miter/>
          </a:ln>
        </p:spPr>
      </p:cxnSp>
      <p:cxnSp>
        <p:nvCxnSpPr>
          <p:cNvPr id="625" name=""/>
          <p:cNvCxnSpPr>
            <a:stCxn id="599" idx="2"/>
            <a:endCxn id="605" idx="2"/>
          </p:cNvCxnSpPr>
          <p:nvPr/>
        </p:nvCxnSpPr>
        <p:spPr>
          <a:xfrm flipH="1" rot="16200000">
            <a:off x="5850720" y="2877840"/>
            <a:ext cx="2160" cy="4488840"/>
          </a:xfrm>
          <a:prstGeom prst="bentConnector3">
            <a:avLst>
              <a:gd name="adj1" fmla="val 42900000"/>
            </a:avLst>
          </a:prstGeom>
          <a:ln w="31680">
            <a:solidFill>
              <a:srgbClr val="ffffff"/>
            </a:solidFill>
            <a:miter/>
          </a:ln>
        </p:spPr>
      </p:cxnSp>
      <p:cxnSp>
        <p:nvCxnSpPr>
          <p:cNvPr id="626" name=""/>
          <p:cNvCxnSpPr/>
          <p:nvPr/>
        </p:nvCxnSpPr>
        <p:spPr>
          <a:xfrm flipH="1" rot="16200000">
            <a:off x="7065720" y="4077360"/>
            <a:ext cx="2160" cy="2057760"/>
          </a:xfrm>
          <a:prstGeom prst="bentConnector3">
            <a:avLst>
              <a:gd name="adj1" fmla="val 28400000"/>
            </a:avLst>
          </a:prstGeom>
          <a:ln w="31680">
            <a:solidFill>
              <a:srgbClr val="ffffff"/>
            </a:solidFill>
            <a:miter/>
          </a:ln>
        </p:spPr>
      </p:cxnSp>
      <p:sp>
        <p:nvSpPr>
          <p:cNvPr id="627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E3727-2B47-4A15-B1A9-2AC6D1B84D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Object use case: Add an Exon, dbxref, and Description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52280" y="1600200"/>
            <a:ext cx="8839440" cy="4572000"/>
          </a:xfrm>
          <a:prstGeom prst="rect">
            <a:avLst/>
          </a:prstGeom>
          <a:solidFill>
            <a:srgbClr val="00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#!per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use dicty::Fe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my $transcript = new dicty::Feature( -feature_no =&gt; 218420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transcript-&gt;description( ‘Gene model derived from AU12345'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transcript-&gt;add_external_id( -source =&gt; ‘GenBank Accession Number'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                              </a:t>
            </a: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-id     =&gt; 'AU12345'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bioperl = $transcript-&gt;bioper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[$bioperl-&gt;exons()]-&gt;[2]-&gt;start( 281050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my $exon = Bio::SeqFeature::Gene::Exon-&gt;new(    -start  =&gt; 280921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                                                 </a:t>
            </a: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-end    =&gt; 280959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                                                 </a:t>
            </a: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-strand =&gt; -1  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exon-&gt;is_coding(1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bioperl-&gt;add_exon($exon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transcript-&gt;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7A2EE-9674-4D64-84B5-B9418196B6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5784840" y="1941480"/>
            <a:ext cx="914400" cy="45720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nBan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203560" y="1865160"/>
            <a:ext cx="914400" cy="457200"/>
          </a:xfrm>
          <a:prstGeom prst="rect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nBan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sing Apoll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4" name="laptop"/>
          <p:cNvSpPr/>
          <p:nvPr/>
        </p:nvSpPr>
        <p:spPr>
          <a:xfrm>
            <a:off x="7308720" y="2170080"/>
            <a:ext cx="1352520" cy="114300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1461960" y="2169720"/>
            <a:ext cx="513000" cy="206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 flipV="1">
            <a:off x="1517760" y="3008160"/>
            <a:ext cx="579096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902240" y="4227480"/>
            <a:ext cx="57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quest segment through SOAP message over HT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1517400" y="2279520"/>
            <a:ext cx="507960" cy="195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851520" y="2246400"/>
            <a:ext cx="6098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H="1" flipV="1">
            <a:off x="6775200" y="2322000"/>
            <a:ext cx="6094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902240" y="4608360"/>
            <a:ext cx="40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 layer generates GenBank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904400" y="5370480"/>
            <a:ext cx="63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ify, in Apollo send changed gene models back via SO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911960" y="5791320"/>
            <a:ext cx="60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ptor changes gene models and updates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50720" y="4075200"/>
            <a:ext cx="762120" cy="1218960"/>
          </a:xfrm>
          <a:prstGeom prst="can">
            <a:avLst>
              <a:gd name="adj" fmla="val 25000"/>
            </a:avLst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22120" y="2170080"/>
            <a:ext cx="1143000" cy="988920"/>
          </a:xfrm>
          <a:prstGeom prst="hexagon">
            <a:avLst>
              <a:gd name="adj" fmla="val 28895"/>
              <a:gd name="vf" fmla="val 115470"/>
            </a:avLst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907920" y="323676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755640" y="32364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Cloud"/>
          <p:cNvSpPr/>
          <p:nvPr/>
        </p:nvSpPr>
        <p:spPr>
          <a:xfrm>
            <a:off x="3498840" y="1560600"/>
            <a:ext cx="1676520" cy="24480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913040" y="5000760"/>
            <a:ext cx="42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d GenBank File via SOAP mess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7613640" y="2324160"/>
            <a:ext cx="789120" cy="43668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 rot="1219800">
            <a:off x="3809520" y="1752480"/>
            <a:ext cx="1295640" cy="66852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2203560" y="1865160"/>
            <a:ext cx="9144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nBan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784840" y="1941480"/>
            <a:ext cx="9144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enBan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9057B-5FD5-4367-B26A-26CF625C50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New Curation Tool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 and Feature curation had to be rewrit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 centric’ cu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ed more evidence qualif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ation classes that manipulate Object 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476C3-5499-4E68-82AE-D10EDA22E30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ere Are We Go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tilize the flexibility – New Feature Types, feature relations, and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ibute back to GM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dually port different areas into CH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feedback and testing ground for database indepen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C7B1B-DCA6-4C1E-AD8F-89BB763221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cknowlegmen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2895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ctyB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x Chisholm, Ph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arren Kibbe, Ph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gramm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hel Mercha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urat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tra F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scale Gaudet, Ph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aren Pilc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ioinformatics Core at Northwester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410080" y="1447920"/>
            <a:ext cx="33530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ther Grou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und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H (NIGMS and NHGR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G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M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Brow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poll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oPer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A0236-C608-402C-985C-1B27C6D9BF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tyBase based on SG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 flexibility in feature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nt to use CHADO for feature data, but ‘dicty’ SGD schema for the 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ty’ SGD (Oracle) needs to link to CH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EF128-5577-4AC8-8955-5F44E04425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chema port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airy did most of this, b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to tweak Oracle Produ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 name limited to 30 characters, systematically truncate 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que/primary keys on CLOBs (text) not allowed, changed to varchar2(400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’ reserved name in Oracle, changed name to ‘SYNONYM _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A5467-5F6A-4E88-864B-61315B92CC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ass::DB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::DBI provides nice ‘table level’ abst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U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follow references WITHOUT WRITING SQ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llent tool for port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MOD ships with Class::DBI configured for CH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d to fix/customize Oracle D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86BF1-6F67-43D1-B6FC-2A1DF7056E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utoDB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ckage which loads Class::DBI classes for each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class name Chado::Synonym but call set_up_table( ‘synonym_’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‘residues’ a ‘lazy’ column of Chado::Fe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other Significant porting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7EB32-F4BC-471D-8C7A-0A58B851D3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ata Migr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514600" y="274320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267080" y="2286000"/>
            <a:ext cx="838440" cy="1295280"/>
          </a:xfrm>
          <a:prstGeom prst="rect">
            <a:avLst/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FF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486400" y="2666880"/>
            <a:ext cx="1295280" cy="6098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086600" y="2362320"/>
            <a:ext cx="990720" cy="1218960"/>
          </a:xfrm>
          <a:prstGeom prst="can">
            <a:avLst>
              <a:gd name="adj" fmla="val 25000"/>
            </a:avLst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219320" y="2438280"/>
            <a:ext cx="990360" cy="1219320"/>
          </a:xfrm>
          <a:prstGeom prst="can">
            <a:avLst>
              <a:gd name="adj" fmla="val 25000"/>
            </a:avLst>
          </a:prstGeom>
          <a:solidFill>
            <a:srgbClr val="006699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09800" y="4952880"/>
            <a:ext cx="576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ort chromosome sequences and locations in GFF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1752480" y="3505320"/>
            <a:ext cx="5791320" cy="914400"/>
            <a:chOff x="1752480" y="3505320"/>
            <a:chExt cx="5791320" cy="914400"/>
          </a:xfrm>
        </p:grpSpPr>
        <p:sp>
          <p:nvSpPr>
            <p:cNvPr id="536" name=""/>
            <p:cNvSpPr/>
            <p:nvPr/>
          </p:nvSpPr>
          <p:spPr>
            <a:xfrm>
              <a:off x="2209680" y="3505320"/>
              <a:ext cx="4876920" cy="761760"/>
            </a:xfrm>
            <a:custGeom>
              <a:avLst/>
              <a:gdLst/>
              <a:ahLst/>
              <a:rect l="l" t="t" r="r" b="b"/>
              <a:pathLst>
                <a:path w="3504" h="440">
                  <a:moveTo>
                    <a:pt x="0" y="48"/>
                  </a:moveTo>
                  <a:cubicBezTo>
                    <a:pt x="644" y="244"/>
                    <a:pt x="1288" y="440"/>
                    <a:pt x="1872" y="432"/>
                  </a:cubicBezTo>
                  <a:cubicBezTo>
                    <a:pt x="2456" y="424"/>
                    <a:pt x="2980" y="212"/>
                    <a:pt x="3504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981080" y="3581280"/>
              <a:ext cx="5334120" cy="762120"/>
            </a:xfrm>
            <a:custGeom>
              <a:avLst/>
              <a:gdLst/>
              <a:ahLst/>
              <a:rect l="l" t="t" r="r" b="b"/>
              <a:pathLst>
                <a:path w="3504" h="440">
                  <a:moveTo>
                    <a:pt x="0" y="48"/>
                  </a:moveTo>
                  <a:cubicBezTo>
                    <a:pt x="644" y="244"/>
                    <a:pt x="1288" y="440"/>
                    <a:pt x="1872" y="432"/>
                  </a:cubicBezTo>
                  <a:cubicBezTo>
                    <a:pt x="2456" y="424"/>
                    <a:pt x="2980" y="212"/>
                    <a:pt x="3504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52480" y="3657600"/>
              <a:ext cx="5791320" cy="762120"/>
            </a:xfrm>
            <a:custGeom>
              <a:avLst/>
              <a:gdLst/>
              <a:ahLst/>
              <a:rect l="l" t="t" r="r" b="b"/>
              <a:pathLst>
                <a:path w="3504" h="440">
                  <a:moveTo>
                    <a:pt x="0" y="48"/>
                  </a:moveTo>
                  <a:cubicBezTo>
                    <a:pt x="644" y="244"/>
                    <a:pt x="1288" y="440"/>
                    <a:pt x="1872" y="432"/>
                  </a:cubicBezTo>
                  <a:cubicBezTo>
                    <a:pt x="2456" y="424"/>
                    <a:pt x="2980" y="212"/>
                    <a:pt x="3504" y="0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1907640" y="5334120"/>
            <a:ext cx="35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ad GFF3 into CHADO sche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10160" y="5715000"/>
            <a:ext cx="57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date references to features with new tables and id’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321560" y="2819520"/>
            <a:ext cx="75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cty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G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12FA1-1968-4950-924E-443AB0CFFA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822240" y="1407960"/>
            <a:ext cx="78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ws’ method does not exist in Oracle DBI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Browse port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57200" y="1905120"/>
            <a:ext cx="815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990720" y="2666880"/>
            <a:ext cx="7391160" cy="733320"/>
          </a:xfrm>
          <a:prstGeom prst="rect">
            <a:avLst/>
          </a:prstGeom>
          <a:solidFill>
            <a:srgbClr val="00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my $rows_returned = @{$sth-&gt;fetchall_arrayref()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sth-&gt;execute or Bio::Root::Root-&gt;thro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if ( $rows_returned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== 0) {…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990720" y="1905120"/>
            <a:ext cx="7315200" cy="307080"/>
          </a:xfrm>
          <a:prstGeom prst="rect">
            <a:avLst/>
          </a:prstGeom>
          <a:solidFill>
            <a:srgbClr val="00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if ($sth-&gt;rows() == 0) {…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62120" y="3886200"/>
            <a:ext cx="786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acle fetchrow_hashref() is case sensi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914400" y="4343400"/>
            <a:ext cx="7315200" cy="368280"/>
          </a:xfrm>
          <a:prstGeom prst="rect">
            <a:avLst/>
          </a:prstGeom>
          <a:solidFill>
            <a:srgbClr val="00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sth-&gt;fetchrow_hashref()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914400" y="5181480"/>
            <a:ext cx="7391520" cy="368280"/>
          </a:xfrm>
          <a:prstGeom prst="rect">
            <a:avLst/>
          </a:prstGeom>
          <a:solidFill>
            <a:srgbClr val="00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66ff33"/>
                </a:solidFill>
                <a:latin typeface="Lucida Console"/>
              </a:rPr>
              <a:t>$sth-&gt;fetchrow_hashref("NAME_lc"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191120" y="2362320"/>
            <a:ext cx="7617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191120" y="4834080"/>
            <a:ext cx="7617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FD2BC-81B4-42D0-8DE0-4A148FB87C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GBrowse porting - Queri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915840"/>
          </a:xfrm>
          <a:prstGeom prst="rect">
            <a:avLst/>
          </a:prstGeom>
          <a:solidFill>
            <a:srgbClr val="000000"/>
          </a:solidFill>
          <a:ln w="38160">
            <a:solidFill>
              <a:srgbClr val="96969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33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select f.feature_id, f.name, fl.fmin,fl.fma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from feature 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join featureloc fl      using (feature_i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where f.feature_id = 221659 and fl.rank=0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200400"/>
            <a:ext cx="8229600" cy="914400"/>
          </a:xfrm>
          <a:prstGeom prst="rect">
            <a:avLst/>
          </a:prstGeom>
          <a:solidFill>
            <a:srgbClr val="000000"/>
          </a:soli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33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select f.feature_id, f.name, fl.fmin,fl.fma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from feature 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join featureloc fl      on f.feature_id = fl.feature_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     </a:t>
            </a:r>
            <a:r>
              <a:rPr b="1" lang="en-US" sz="1200" spc="-1" strike="noStrike">
                <a:solidFill>
                  <a:srgbClr val="66ff33"/>
                </a:solidFill>
                <a:latin typeface="Lucida Console"/>
              </a:rPr>
              <a:t>where f.feature_id = 221659 and fl.rank=0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89520" y="1219320"/>
            <a:ext cx="83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acle does not like anything in a ‘using’ clause to also be in the ‘where’ cla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114800" y="2819520"/>
            <a:ext cx="7621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57200" y="4572000"/>
            <a:ext cx="809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string’ becomes ‘substr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SQL containing synonym table must be modifi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procedural SQL must be reproduced, in some cases this can be avoi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E6269-E299-4844-ADD5-C05E90C9B3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un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ed is_deleted flag to feature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ed some audit colum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ed audit table and trigg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d Indexes Heuristic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ed hints to some difficult que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967480" y="640080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ic Just - dictyBase – Northwestern Univers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Eric Just - dictyBase - Northwestern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EE24C-B059-4F74-9D43-935C00175C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13:39:44Z</dcterms:created>
  <dc:creator>cgm</dc:creator>
  <dc:description/>
  <dc:language>en-US</dc:language>
  <cp:lastModifiedBy>eric</cp:lastModifiedBy>
  <dcterms:modified xsi:type="dcterms:W3CDTF">2005-05-17T18:57:26Z</dcterms:modified>
  <cp:revision>63</cp:revision>
  <dc:subject/>
  <dc:title>Slide 1</dc:title>
</cp:coreProperties>
</file>